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B2F3-D944-43FA-BD5B-80B0416A8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2E7A-5E6E-4104-BFAC-12696BEBA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E2CB-23EB-4468-9DF0-F2E9DACE0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0A40-CEAB-4444-970A-BC5F87488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9348A-DD26-49D7-8225-B6C207FD7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A7041-0946-443E-B5AD-2182FA45D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ECBEA-6B94-4BFF-AB10-885571E81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69893-64EB-49F4-A238-6F69B112E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ACBFA-13A7-4F17-9C24-31FC5BA4C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ABF83-F7C3-45C8-91FB-45F23B704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03711-DBE3-4728-BB3E-0B78C8B7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4EA9-A235-45A7-84F1-0CEEB4B43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72F92-75DB-4629-A1A5-C8271BCF3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FB703-EACF-4620-9DE9-BE99BF3B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5127C-4773-44E4-9B0F-5B18C286C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4C72F-F8D6-4C7F-876F-038208394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3C463-A006-4164-9280-AF8C51961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33A6-ADF9-4496-8C92-B42B685B2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1CB0-05F2-49EF-93CE-0E1143DEF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8C7A-78D5-4116-B81B-58ECCAF3C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AA41-F70D-4B49-9FCA-1E29C08A9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A8F8-58DF-4E75-9C16-C5B94BAA6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674A-5521-4620-ACD1-6487C2572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A433-6627-46DB-BD6A-551D7DF86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slideLayout" Target="../slideLayouts/slideLayout1.xml"/><Relationship Id="rId30" Type="http://schemas.openxmlformats.org/officeDocument/2006/relationships/slideLayout" Target="../slideLayouts/slideLayout2.xml"/><Relationship Id="rId31" Type="http://schemas.openxmlformats.org/officeDocument/2006/relationships/slideLayout" Target="../slideLayouts/slideLayout3.xml"/><Relationship Id="rId32" Type="http://schemas.openxmlformats.org/officeDocument/2006/relationships/slideLayout" Target="../slideLayouts/slideLayout4.xml"/><Relationship Id="rId33" Type="http://schemas.openxmlformats.org/officeDocument/2006/relationships/slideLayout" Target="../slideLayouts/slideLayout5.xml"/><Relationship Id="rId34" Type="http://schemas.openxmlformats.org/officeDocument/2006/relationships/slideLayout" Target="../slideLayouts/slideLayout6.xml"/><Relationship Id="rId35" Type="http://schemas.openxmlformats.org/officeDocument/2006/relationships/slideLayout" Target="../slideLayouts/slideLayout7.xml"/><Relationship Id="rId36" Type="http://schemas.openxmlformats.org/officeDocument/2006/relationships/slideLayout" Target="../slideLayouts/slideLayout8.xml"/><Relationship Id="rId37" Type="http://schemas.openxmlformats.org/officeDocument/2006/relationships/slideLayout" Target="../slideLayouts/slideLayout9.xml"/><Relationship Id="rId38" Type="http://schemas.openxmlformats.org/officeDocument/2006/relationships/slideLayout" Target="../slideLayouts/slideLayout10.xml"/><Relationship Id="rId39" Type="http://schemas.openxmlformats.org/officeDocument/2006/relationships/slideLayout" Target="../slideLayouts/slideLayout11.xml"/><Relationship Id="rId4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30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33.png"/><Relationship Id="rId35" Type="http://schemas.openxmlformats.org/officeDocument/2006/relationships/image" Target="../media/image34.png"/><Relationship Id="rId36" Type="http://schemas.openxmlformats.org/officeDocument/2006/relationships/image" Target="../media/image34.png"/><Relationship Id="rId37" Type="http://schemas.openxmlformats.org/officeDocument/2006/relationships/slideLayout" Target="../slideLayouts/slideLayout13.xml"/><Relationship Id="rId38" Type="http://schemas.openxmlformats.org/officeDocument/2006/relationships/slideLayout" Target="../slideLayouts/slideLayout14.xml"/><Relationship Id="rId39" Type="http://schemas.openxmlformats.org/officeDocument/2006/relationships/slideLayout" Target="../slideLayouts/slideLayout15.xml"/><Relationship Id="rId40" Type="http://schemas.openxmlformats.org/officeDocument/2006/relationships/slideLayout" Target="../slideLayouts/slideLayout16.xml"/><Relationship Id="rId41" Type="http://schemas.openxmlformats.org/officeDocument/2006/relationships/slideLayout" Target="../slideLayouts/slideLayout17.xml"/><Relationship Id="rId42" Type="http://schemas.openxmlformats.org/officeDocument/2006/relationships/slideLayout" Target="../slideLayouts/slideLayout18.xml"/><Relationship Id="rId43" Type="http://schemas.openxmlformats.org/officeDocument/2006/relationships/slideLayout" Target="../slideLayouts/slideLayout19.xml"/><Relationship Id="rId44" Type="http://schemas.openxmlformats.org/officeDocument/2006/relationships/slideLayout" Target="../slideLayouts/slideLayout20.xml"/><Relationship Id="rId45" Type="http://schemas.openxmlformats.org/officeDocument/2006/relationships/slideLayout" Target="../slideLayouts/slideLayout21.xml"/><Relationship Id="rId46" Type="http://schemas.openxmlformats.org/officeDocument/2006/relationships/slideLayout" Target="../slideLayouts/slideLayout22.xml"/><Relationship Id="rId47" Type="http://schemas.openxmlformats.org/officeDocument/2006/relationships/slideLayout" Target="../slideLayouts/slideLayout23.xml"/><Relationship Id="rId4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2519"/>
            </a:gs>
            <a:gs pos="100000">
              <a:srgbClr val="860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900" spc="-1" strike="noStrike">
                <a:solidFill>
                  <a:srgbClr val="ff9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ff9000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800" spc="-1" strike="noStrike">
                <a:solidFill>
                  <a:srgbClr val="ff9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2252A-BCD7-466A-A050-7A1624E1BE56}" type="slidenum">
              <a:rPr b="0" lang="en-CA" sz="1800" spc="-1" strike="noStrike">
                <a:solidFill>
                  <a:srgbClr val="ff9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" name="Group 60"/>
          <p:cNvGrpSpPr/>
          <p:nvPr/>
        </p:nvGrpSpPr>
        <p:grpSpPr>
          <a:xfrm>
            <a:off x="-163080" y="0"/>
            <a:ext cx="9540720" cy="6858000"/>
            <a:chOff x="-163080" y="0"/>
            <a:chExt cx="9540720" cy="6858000"/>
          </a:xfrm>
        </p:grpSpPr>
        <p:grpSp>
          <p:nvGrpSpPr>
            <p:cNvPr id="6" name="Group 182"/>
            <p:cNvGrpSpPr/>
            <p:nvPr/>
          </p:nvGrpSpPr>
          <p:grpSpPr>
            <a:xfrm>
              <a:off x="-163080" y="299880"/>
              <a:ext cx="9234000" cy="6447600"/>
              <a:chOff x="-163080" y="299880"/>
              <a:chExt cx="9234000" cy="6447600"/>
            </a:xfrm>
          </p:grpSpPr>
          <p:grpSp>
            <p:nvGrpSpPr>
              <p:cNvPr id="7" name="Freeform 12"/>
              <p:cNvGrpSpPr/>
              <p:nvPr/>
            </p:nvGrpSpPr>
            <p:grpSpPr>
              <a:xfrm>
                <a:off x="-163080" y="3517920"/>
                <a:ext cx="1468440" cy="1466640"/>
                <a:chOff x="-163080" y="3517920"/>
                <a:chExt cx="1468440" cy="1466640"/>
              </a:xfrm>
            </p:grpSpPr>
            <p:pic>
              <p:nvPicPr>
                <p:cNvPr id="8" name="Freeform 1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-33480" y="3667680"/>
                  <a:ext cx="1237680" cy="1193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" name=""/>
                <p:cNvSpPr/>
                <p:nvPr/>
              </p:nvSpPr>
              <p:spPr>
                <a:xfrm rot="8050800">
                  <a:off x="74520" y="3709440"/>
                  <a:ext cx="992880" cy="10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0" name="Freeform 28"/>
              <p:cNvGrpSpPr/>
              <p:nvPr/>
            </p:nvGrpSpPr>
            <p:grpSpPr>
              <a:xfrm>
                <a:off x="315360" y="299880"/>
                <a:ext cx="1447200" cy="1352520"/>
                <a:chOff x="315360" y="299880"/>
                <a:chExt cx="1447200" cy="1352520"/>
              </a:xfrm>
            </p:grpSpPr>
            <p:pic>
              <p:nvPicPr>
                <p:cNvPr id="11" name="Freeform 2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78440" y="437040"/>
                  <a:ext cx="1149120" cy="1032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" name=""/>
                <p:cNvSpPr/>
                <p:nvPr/>
              </p:nvSpPr>
              <p:spPr>
                <a:xfrm rot="7569000">
                  <a:off x="646920" y="366120"/>
                  <a:ext cx="783720" cy="12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3" name="Freeform 36"/>
              <p:cNvGrpSpPr/>
              <p:nvPr/>
            </p:nvGrpSpPr>
            <p:grpSpPr>
              <a:xfrm>
                <a:off x="7576920" y="601200"/>
                <a:ext cx="1301040" cy="1269720"/>
                <a:chOff x="7576920" y="601200"/>
                <a:chExt cx="1301040" cy="1269720"/>
              </a:xfrm>
            </p:grpSpPr>
            <p:pic>
              <p:nvPicPr>
                <p:cNvPr id="14" name="Freeform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98880" y="677880"/>
                  <a:ext cx="1207800" cy="113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" name=""/>
                <p:cNvSpPr/>
                <p:nvPr/>
              </p:nvSpPr>
              <p:spPr>
                <a:xfrm rot="11849400">
                  <a:off x="7702920" y="735480"/>
                  <a:ext cx="1049040" cy="100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6" name="Freeform 32"/>
              <p:cNvGrpSpPr/>
              <p:nvPr/>
            </p:nvGrpSpPr>
            <p:grpSpPr>
              <a:xfrm>
                <a:off x="6811560" y="1857240"/>
                <a:ext cx="1442160" cy="836280"/>
                <a:chOff x="6811560" y="1857240"/>
                <a:chExt cx="1442160" cy="836280"/>
              </a:xfrm>
            </p:grpSpPr>
            <p:pic>
              <p:nvPicPr>
                <p:cNvPr id="17" name="Freeform 3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11560" y="1883160"/>
                  <a:ext cx="1442160" cy="757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" name=""/>
                <p:cNvSpPr/>
                <p:nvPr/>
              </p:nvSpPr>
              <p:spPr>
                <a:xfrm rot="6220200">
                  <a:off x="7263360" y="1609920"/>
                  <a:ext cx="537120" cy="133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9" name="Freeform 16"/>
              <p:cNvGrpSpPr/>
              <p:nvPr/>
            </p:nvGrpSpPr>
            <p:grpSpPr>
              <a:xfrm>
                <a:off x="7590960" y="4825080"/>
                <a:ext cx="1479960" cy="1178280"/>
                <a:chOff x="7590960" y="4825080"/>
                <a:chExt cx="1479960" cy="1178280"/>
              </a:xfrm>
            </p:grpSpPr>
            <p:pic>
              <p:nvPicPr>
                <p:cNvPr id="20" name="Freeform 1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641000" y="4941720"/>
                  <a:ext cx="1400040" cy="98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" name=""/>
                <p:cNvSpPr/>
                <p:nvPr/>
              </p:nvSpPr>
              <p:spPr>
                <a:xfrm rot="6532800">
                  <a:off x="7928640" y="4769640"/>
                  <a:ext cx="804600" cy="128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2" name="Freeform 20"/>
              <p:cNvGrpSpPr/>
              <p:nvPr/>
            </p:nvGrpSpPr>
            <p:grpSpPr>
              <a:xfrm>
                <a:off x="6987240" y="5295240"/>
                <a:ext cx="1589400" cy="1452240"/>
                <a:chOff x="6987240" y="5295240"/>
                <a:chExt cx="1589400" cy="1452240"/>
              </a:xfrm>
            </p:grpSpPr>
            <p:pic>
              <p:nvPicPr>
                <p:cNvPr id="23" name="Freeform 20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112520" y="5463720"/>
                  <a:ext cx="1349640" cy="1147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" name=""/>
                <p:cNvSpPr/>
                <p:nvPr/>
              </p:nvSpPr>
              <p:spPr>
                <a:xfrm rot="7603800">
                  <a:off x="7407000" y="5308920"/>
                  <a:ext cx="749160" cy="142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25" name="Group 189"/>
            <p:cNvGrpSpPr/>
            <p:nvPr/>
          </p:nvGrpSpPr>
          <p:grpSpPr>
            <a:xfrm>
              <a:off x="0" y="92520"/>
              <a:ext cx="9144000" cy="6765480"/>
              <a:chOff x="0" y="92520"/>
              <a:chExt cx="9144000" cy="6765480"/>
            </a:xfrm>
          </p:grpSpPr>
          <p:grpSp>
            <p:nvGrpSpPr>
              <p:cNvPr id="26" name="Freeform 12"/>
              <p:cNvGrpSpPr/>
              <p:nvPr/>
            </p:nvGrpSpPr>
            <p:grpSpPr>
              <a:xfrm>
                <a:off x="7513920" y="3521880"/>
                <a:ext cx="1266480" cy="1286640"/>
                <a:chOff x="7513920" y="3521880"/>
                <a:chExt cx="1266480" cy="1286640"/>
              </a:xfrm>
            </p:grpSpPr>
            <p:pic>
              <p:nvPicPr>
                <p:cNvPr id="27" name="Freeform 1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614000" y="3678840"/>
                  <a:ext cx="1078200" cy="996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" name=""/>
                <p:cNvSpPr/>
                <p:nvPr/>
              </p:nvSpPr>
              <p:spPr>
                <a:xfrm rot="19953600">
                  <a:off x="7685280" y="3679920"/>
                  <a:ext cx="923400" cy="97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9" name="Freeform 20"/>
              <p:cNvGrpSpPr/>
              <p:nvPr/>
            </p:nvGrpSpPr>
            <p:grpSpPr>
              <a:xfrm>
                <a:off x="6614640" y="5115240"/>
                <a:ext cx="1188720" cy="1320840"/>
                <a:chOff x="6614640" y="5115240"/>
                <a:chExt cx="1188720" cy="1320840"/>
              </a:xfrm>
            </p:grpSpPr>
            <p:pic>
              <p:nvPicPr>
                <p:cNvPr id="30" name="Freeform 20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728400" y="5249160"/>
                  <a:ext cx="909360" cy="1060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" name=""/>
                <p:cNvSpPr/>
                <p:nvPr/>
              </p:nvSpPr>
              <p:spPr>
                <a:xfrm rot="12860400">
                  <a:off x="6883560" y="5198040"/>
                  <a:ext cx="650880" cy="115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2" name="Freeform 12"/>
              <p:cNvGrpSpPr/>
              <p:nvPr/>
            </p:nvGrpSpPr>
            <p:grpSpPr>
              <a:xfrm>
                <a:off x="7072560" y="2264400"/>
                <a:ext cx="1121400" cy="1126800"/>
                <a:chOff x="7072560" y="2264400"/>
                <a:chExt cx="1121400" cy="1126800"/>
              </a:xfrm>
            </p:grpSpPr>
            <p:pic>
              <p:nvPicPr>
                <p:cNvPr id="33" name="Freeform 1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156440" y="2401920"/>
                  <a:ext cx="951480" cy="814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" name=""/>
                <p:cNvSpPr/>
                <p:nvPr/>
              </p:nvSpPr>
              <p:spPr>
                <a:xfrm rot="1885800">
                  <a:off x="7228080" y="2414880"/>
                  <a:ext cx="809640" cy="82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5" name="Freeform 16"/>
              <p:cNvGrpSpPr/>
              <p:nvPr/>
            </p:nvGrpSpPr>
            <p:grpSpPr>
              <a:xfrm>
                <a:off x="7886880" y="92520"/>
                <a:ext cx="1069920" cy="1140840"/>
                <a:chOff x="7886880" y="92520"/>
                <a:chExt cx="1069920" cy="1140840"/>
              </a:xfrm>
            </p:grpSpPr>
            <p:pic>
              <p:nvPicPr>
                <p:cNvPr id="36" name="Freeform 1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053920" y="223920"/>
                  <a:ext cx="734760" cy="913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" name=""/>
                <p:cNvSpPr/>
                <p:nvPr/>
              </p:nvSpPr>
              <p:spPr>
                <a:xfrm rot="19458000">
                  <a:off x="8103240" y="189000"/>
                  <a:ext cx="63684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8" name="Freeform 32"/>
              <p:cNvGrpSpPr/>
              <p:nvPr/>
            </p:nvGrpSpPr>
            <p:grpSpPr>
              <a:xfrm>
                <a:off x="6873120" y="1022040"/>
                <a:ext cx="945720" cy="468000"/>
                <a:chOff x="6873120" y="1022040"/>
                <a:chExt cx="945720" cy="468000"/>
              </a:xfrm>
            </p:grpSpPr>
            <p:pic>
              <p:nvPicPr>
                <p:cNvPr id="39" name="Freeform 32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873120" y="1022040"/>
                  <a:ext cx="945720" cy="468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" name=""/>
                <p:cNvSpPr/>
                <p:nvPr/>
              </p:nvSpPr>
              <p:spPr>
                <a:xfrm rot="16200000">
                  <a:off x="7168320" y="834840"/>
                  <a:ext cx="358200" cy="83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1" name="Freeform 28"/>
              <p:cNvGrpSpPr/>
              <p:nvPr/>
            </p:nvGrpSpPr>
            <p:grpSpPr>
              <a:xfrm>
                <a:off x="593280" y="95760"/>
                <a:ext cx="1212120" cy="1293480"/>
                <a:chOff x="593280" y="95760"/>
                <a:chExt cx="1212120" cy="1293480"/>
              </a:xfrm>
            </p:grpSpPr>
            <p:pic>
              <p:nvPicPr>
                <p:cNvPr id="42" name="Freeform 28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40880" y="257400"/>
                  <a:ext cx="891360" cy="943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" name=""/>
                <p:cNvSpPr/>
                <p:nvPr/>
              </p:nvSpPr>
              <p:spPr>
                <a:xfrm rot="2065200">
                  <a:off x="826920" y="213480"/>
                  <a:ext cx="744480" cy="105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4" name="Freeform 39"/>
              <p:cNvGrpSpPr/>
              <p:nvPr/>
            </p:nvGrpSpPr>
            <p:grpSpPr>
              <a:xfrm>
                <a:off x="8722440" y="1173960"/>
                <a:ext cx="421560" cy="887400"/>
                <a:chOff x="8722440" y="1173960"/>
                <a:chExt cx="421560" cy="887400"/>
              </a:xfrm>
            </p:grpSpPr>
            <p:pic>
              <p:nvPicPr>
                <p:cNvPr id="45" name="Freeform 39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722440" y="1173960"/>
                  <a:ext cx="421560" cy="887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6" name=""/>
                <p:cNvSpPr/>
                <p:nvPr/>
              </p:nvSpPr>
              <p:spPr>
                <a:xfrm>
                  <a:off x="8778240" y="1230840"/>
                  <a:ext cx="311400" cy="77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7" name="Freeform 88"/>
              <p:cNvGrpSpPr/>
              <p:nvPr/>
            </p:nvGrpSpPr>
            <p:grpSpPr>
              <a:xfrm>
                <a:off x="11880" y="5010120"/>
                <a:ext cx="789120" cy="1015200"/>
                <a:chOff x="11880" y="5010120"/>
                <a:chExt cx="789120" cy="1015200"/>
              </a:xfrm>
            </p:grpSpPr>
            <p:pic>
              <p:nvPicPr>
                <p:cNvPr id="48" name="Freeform 88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11880" y="5010120"/>
                  <a:ext cx="789120" cy="1015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" name=""/>
                <p:cNvSpPr/>
                <p:nvPr/>
              </p:nvSpPr>
              <p:spPr>
                <a:xfrm>
                  <a:off x="64440" y="5067360"/>
                  <a:ext cx="684720" cy="90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0" name="Freeform 47"/>
              <p:cNvGrpSpPr/>
              <p:nvPr/>
            </p:nvGrpSpPr>
            <p:grpSpPr>
              <a:xfrm>
                <a:off x="0" y="2341080"/>
                <a:ext cx="554040" cy="960480"/>
                <a:chOff x="0" y="2341080"/>
                <a:chExt cx="554040" cy="960480"/>
              </a:xfrm>
            </p:grpSpPr>
            <p:pic>
              <p:nvPicPr>
                <p:cNvPr id="51" name="Freeform 47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0" y="2341080"/>
                  <a:ext cx="554040" cy="960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2" name=""/>
                <p:cNvSpPr/>
                <p:nvPr/>
              </p:nvSpPr>
              <p:spPr>
                <a:xfrm>
                  <a:off x="54000" y="2395800"/>
                  <a:ext cx="448200" cy="85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3" name="Freeform 23"/>
              <p:cNvGrpSpPr/>
              <p:nvPr/>
            </p:nvGrpSpPr>
            <p:grpSpPr>
              <a:xfrm>
                <a:off x="8451360" y="6073920"/>
                <a:ext cx="692640" cy="784080"/>
                <a:chOff x="8451360" y="6073920"/>
                <a:chExt cx="692640" cy="784080"/>
              </a:xfrm>
            </p:grpSpPr>
            <p:pic>
              <p:nvPicPr>
                <p:cNvPr id="54" name="Freeform 2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451360" y="6073920"/>
                  <a:ext cx="692640" cy="784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5" name=""/>
                <p:cNvSpPr/>
                <p:nvPr/>
              </p:nvSpPr>
              <p:spPr>
                <a:xfrm>
                  <a:off x="8503920" y="6127920"/>
                  <a:ext cx="585720" cy="67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56" name="Group 200"/>
            <p:cNvGrpSpPr/>
            <p:nvPr/>
          </p:nvGrpSpPr>
          <p:grpSpPr>
            <a:xfrm>
              <a:off x="-16920" y="0"/>
              <a:ext cx="9394560" cy="6858000"/>
              <a:chOff x="-16920" y="0"/>
              <a:chExt cx="9394560" cy="6858000"/>
            </a:xfrm>
          </p:grpSpPr>
          <p:grpSp>
            <p:nvGrpSpPr>
              <p:cNvPr id="57" name="Freeform 16"/>
              <p:cNvGrpSpPr/>
              <p:nvPr/>
            </p:nvGrpSpPr>
            <p:grpSpPr>
              <a:xfrm>
                <a:off x="7391520" y="1329120"/>
                <a:ext cx="1986120" cy="2216160"/>
                <a:chOff x="7391520" y="1329120"/>
                <a:chExt cx="1986120" cy="2216160"/>
              </a:xfrm>
            </p:grpSpPr>
            <p:pic>
              <p:nvPicPr>
                <p:cNvPr id="58" name="Freeform 16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745400" y="1540800"/>
                  <a:ext cx="1314720" cy="1733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9" name=""/>
                <p:cNvSpPr/>
                <p:nvPr/>
              </p:nvSpPr>
              <p:spPr>
                <a:xfrm rot="9111600">
                  <a:off x="7748640" y="1520640"/>
                  <a:ext cx="1271880" cy="183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0" name="Freeform 24"/>
              <p:cNvGrpSpPr/>
              <p:nvPr/>
            </p:nvGrpSpPr>
            <p:grpSpPr>
              <a:xfrm>
                <a:off x="7816680" y="5453640"/>
                <a:ext cx="1215000" cy="791280"/>
                <a:chOff x="7816680" y="5453640"/>
                <a:chExt cx="1215000" cy="791280"/>
              </a:xfrm>
            </p:grpSpPr>
            <p:pic>
              <p:nvPicPr>
                <p:cNvPr id="61" name="Freeform 24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823520" y="5547960"/>
                  <a:ext cx="1147680" cy="582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2" name=""/>
                <p:cNvSpPr/>
                <p:nvPr/>
              </p:nvSpPr>
              <p:spPr>
                <a:xfrm rot="4324800">
                  <a:off x="8190000" y="5286240"/>
                  <a:ext cx="467640" cy="112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3" name="Freeform 28"/>
              <p:cNvGrpSpPr/>
              <p:nvPr/>
            </p:nvGrpSpPr>
            <p:grpSpPr>
              <a:xfrm>
                <a:off x="6858000" y="3920760"/>
                <a:ext cx="1524240" cy="1661760"/>
                <a:chOff x="6858000" y="3920760"/>
                <a:chExt cx="1524240" cy="1661760"/>
              </a:xfrm>
            </p:grpSpPr>
            <p:pic>
              <p:nvPicPr>
                <p:cNvPr id="64" name="Freeform 28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7099920" y="4129920"/>
                  <a:ext cx="1031040" cy="1292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5" name=""/>
                <p:cNvSpPr/>
                <p:nvPr/>
              </p:nvSpPr>
              <p:spPr>
                <a:xfrm rot="19659000">
                  <a:off x="7153560" y="4063320"/>
                  <a:ext cx="932400" cy="137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6" name="Freeform 32"/>
              <p:cNvGrpSpPr/>
              <p:nvPr/>
            </p:nvGrpSpPr>
            <p:grpSpPr>
              <a:xfrm>
                <a:off x="7602480" y="393480"/>
                <a:ext cx="867960" cy="1268280"/>
                <a:chOff x="7602480" y="393480"/>
                <a:chExt cx="867960" cy="1268280"/>
              </a:xfrm>
            </p:grpSpPr>
            <p:pic>
              <p:nvPicPr>
                <p:cNvPr id="67" name="Freeform 32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7654680" y="458280"/>
                  <a:ext cx="729720" cy="1140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" name=""/>
                <p:cNvSpPr/>
                <p:nvPr/>
              </p:nvSpPr>
              <p:spPr>
                <a:xfrm rot="1177800">
                  <a:off x="7783560" y="444240"/>
                  <a:ext cx="505800" cy="11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9" name="Freeform 12"/>
              <p:cNvGrpSpPr/>
              <p:nvPr/>
            </p:nvGrpSpPr>
            <p:grpSpPr>
              <a:xfrm>
                <a:off x="7871400" y="3298680"/>
                <a:ext cx="1309320" cy="1303200"/>
                <a:chOff x="7871400" y="3298680"/>
                <a:chExt cx="1309320" cy="1303200"/>
              </a:xfrm>
            </p:grpSpPr>
            <p:pic>
              <p:nvPicPr>
                <p:cNvPr id="70" name="Freeform 12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8065080" y="3389760"/>
                  <a:ext cx="944640" cy="1111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1" name=""/>
                <p:cNvSpPr/>
                <p:nvPr/>
              </p:nvSpPr>
              <p:spPr>
                <a:xfrm rot="7111200">
                  <a:off x="8048160" y="3464640"/>
                  <a:ext cx="955440" cy="97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72" name="Freeform 15"/>
              <p:cNvGrpSpPr/>
              <p:nvPr/>
            </p:nvGrpSpPr>
            <p:grpSpPr>
              <a:xfrm>
                <a:off x="12960" y="6028560"/>
                <a:ext cx="560880" cy="829440"/>
                <a:chOff x="12960" y="6028560"/>
                <a:chExt cx="560880" cy="829440"/>
              </a:xfrm>
            </p:grpSpPr>
            <p:pic>
              <p:nvPicPr>
                <p:cNvPr id="73" name="Freeform 15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12960" y="6028560"/>
                  <a:ext cx="560880" cy="829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4" name=""/>
                <p:cNvSpPr/>
                <p:nvPr/>
              </p:nvSpPr>
              <p:spPr>
                <a:xfrm>
                  <a:off x="56520" y="6073200"/>
                  <a:ext cx="477720" cy="74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75" name="Freeform 27"/>
              <p:cNvGrpSpPr/>
              <p:nvPr/>
            </p:nvGrpSpPr>
            <p:grpSpPr>
              <a:xfrm>
                <a:off x="-4680" y="3330000"/>
                <a:ext cx="964800" cy="1153800"/>
                <a:chOff x="-4680" y="3330000"/>
                <a:chExt cx="964800" cy="1153800"/>
              </a:xfrm>
            </p:grpSpPr>
            <p:pic>
              <p:nvPicPr>
                <p:cNvPr id="76" name="Freeform 27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-4680" y="3330000"/>
                  <a:ext cx="964800" cy="1153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7" name=""/>
                <p:cNvSpPr/>
                <p:nvPr/>
              </p:nvSpPr>
              <p:spPr>
                <a:xfrm>
                  <a:off x="26280" y="3358080"/>
                  <a:ext cx="903240" cy="10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78" name="Freeform 51"/>
              <p:cNvGrpSpPr/>
              <p:nvPr/>
            </p:nvGrpSpPr>
            <p:grpSpPr>
              <a:xfrm>
                <a:off x="-16920" y="1406520"/>
                <a:ext cx="578880" cy="1388160"/>
                <a:chOff x="-16920" y="1406520"/>
                <a:chExt cx="578880" cy="1388160"/>
              </a:xfrm>
            </p:grpSpPr>
            <p:pic>
              <p:nvPicPr>
                <p:cNvPr id="79" name="Freeform 5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-16920" y="1406520"/>
                  <a:ext cx="578880" cy="1388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" name=""/>
                <p:cNvSpPr/>
                <p:nvPr/>
              </p:nvSpPr>
              <p:spPr>
                <a:xfrm>
                  <a:off x="25920" y="1447920"/>
                  <a:ext cx="494640" cy="130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81" name="Freeform 43"/>
              <p:cNvGrpSpPr/>
              <p:nvPr/>
            </p:nvGrpSpPr>
            <p:grpSpPr>
              <a:xfrm>
                <a:off x="-10800" y="0"/>
                <a:ext cx="1145880" cy="847440"/>
                <a:chOff x="-10800" y="0"/>
                <a:chExt cx="1145880" cy="847440"/>
              </a:xfrm>
            </p:grpSpPr>
            <p:pic>
              <p:nvPicPr>
                <p:cNvPr id="82" name="Freeform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-10800" y="0"/>
                  <a:ext cx="1145880" cy="847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" name=""/>
                <p:cNvSpPr/>
                <p:nvPr/>
              </p:nvSpPr>
              <p:spPr>
                <a:xfrm>
                  <a:off x="43200" y="54000"/>
                  <a:ext cx="1038600" cy="73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84" name="Freeform 35"/>
              <p:cNvGrpSpPr/>
              <p:nvPr/>
            </p:nvGrpSpPr>
            <p:grpSpPr>
              <a:xfrm>
                <a:off x="8251920" y="11880"/>
                <a:ext cx="892440" cy="654840"/>
                <a:chOff x="8251920" y="11880"/>
                <a:chExt cx="892440" cy="654840"/>
              </a:xfrm>
            </p:grpSpPr>
            <p:pic>
              <p:nvPicPr>
                <p:cNvPr id="85" name="Freeform 35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8251920" y="11880"/>
                  <a:ext cx="892440" cy="654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" name=""/>
                <p:cNvSpPr/>
                <p:nvPr/>
              </p:nvSpPr>
              <p:spPr>
                <a:xfrm>
                  <a:off x="8304840" y="65160"/>
                  <a:ext cx="785160" cy="54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87" name="Freeform 31"/>
              <p:cNvGrpSpPr/>
              <p:nvPr/>
            </p:nvGrpSpPr>
            <p:grpSpPr>
              <a:xfrm>
                <a:off x="6900840" y="6136920"/>
                <a:ext cx="1236240" cy="721080"/>
                <a:chOff x="6900840" y="6136920"/>
                <a:chExt cx="1236240" cy="721080"/>
              </a:xfrm>
            </p:grpSpPr>
            <p:pic>
              <p:nvPicPr>
                <p:cNvPr id="88" name="Freeform 31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6900840" y="6136920"/>
                  <a:ext cx="1236240" cy="721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" name=""/>
                <p:cNvSpPr/>
                <p:nvPr/>
              </p:nvSpPr>
              <p:spPr>
                <a:xfrm>
                  <a:off x="6942960" y="6176520"/>
                  <a:ext cx="11502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9"/>
    <p:sldLayoutId id="2147483650" r:id="rId30"/>
    <p:sldLayoutId id="2147483651" r:id="rId31"/>
    <p:sldLayoutId id="2147483652" r:id="rId32"/>
    <p:sldLayoutId id="2147483653" r:id="rId33"/>
    <p:sldLayoutId id="2147483654" r:id="rId34"/>
    <p:sldLayoutId id="2147483655" r:id="rId35"/>
    <p:sldLayoutId id="2147483656" r:id="rId36"/>
    <p:sldLayoutId id="2147483657" r:id="rId37"/>
    <p:sldLayoutId id="2147483658" r:id="rId38"/>
    <p:sldLayoutId id="2147483659" r:id="rId39"/>
    <p:sldLayoutId id="2147483660" r:id="rId4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2519"/>
            </a:gs>
            <a:gs pos="100000">
              <a:srgbClr val="860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60"/>
          <p:cNvGrpSpPr/>
          <p:nvPr/>
        </p:nvGrpSpPr>
        <p:grpSpPr>
          <a:xfrm>
            <a:off x="-163080" y="0"/>
            <a:ext cx="9540720" cy="6858000"/>
            <a:chOff x="-163080" y="0"/>
            <a:chExt cx="9540720" cy="6858000"/>
          </a:xfrm>
        </p:grpSpPr>
        <p:grpSp>
          <p:nvGrpSpPr>
            <p:cNvPr id="127" name="Group 182"/>
            <p:cNvGrpSpPr/>
            <p:nvPr/>
          </p:nvGrpSpPr>
          <p:grpSpPr>
            <a:xfrm>
              <a:off x="-163080" y="299880"/>
              <a:ext cx="9234000" cy="6447600"/>
              <a:chOff x="-163080" y="299880"/>
              <a:chExt cx="9234000" cy="6447600"/>
            </a:xfrm>
          </p:grpSpPr>
          <p:grpSp>
            <p:nvGrpSpPr>
              <p:cNvPr id="128" name="Freeform 12"/>
              <p:cNvGrpSpPr/>
              <p:nvPr/>
            </p:nvGrpSpPr>
            <p:grpSpPr>
              <a:xfrm>
                <a:off x="-163080" y="3517920"/>
                <a:ext cx="1468440" cy="1466640"/>
                <a:chOff x="-163080" y="3517920"/>
                <a:chExt cx="1468440" cy="1466640"/>
              </a:xfrm>
            </p:grpSpPr>
            <p:pic>
              <p:nvPicPr>
                <p:cNvPr id="129" name="Freeform 1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-33480" y="3667680"/>
                  <a:ext cx="1237680" cy="1193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" name=""/>
                <p:cNvSpPr/>
                <p:nvPr/>
              </p:nvSpPr>
              <p:spPr>
                <a:xfrm rot="8050800">
                  <a:off x="74520" y="3709440"/>
                  <a:ext cx="992880" cy="10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31" name="Freeform 28"/>
              <p:cNvGrpSpPr/>
              <p:nvPr/>
            </p:nvGrpSpPr>
            <p:grpSpPr>
              <a:xfrm>
                <a:off x="315360" y="299880"/>
                <a:ext cx="1447200" cy="1352520"/>
                <a:chOff x="315360" y="299880"/>
                <a:chExt cx="1447200" cy="1352520"/>
              </a:xfrm>
            </p:grpSpPr>
            <p:pic>
              <p:nvPicPr>
                <p:cNvPr id="132" name="Freeform 2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78440" y="437040"/>
                  <a:ext cx="1149120" cy="1032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3" name=""/>
                <p:cNvSpPr/>
                <p:nvPr/>
              </p:nvSpPr>
              <p:spPr>
                <a:xfrm rot="7569000">
                  <a:off x="646920" y="366120"/>
                  <a:ext cx="783720" cy="12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34" name="Freeform 36"/>
              <p:cNvGrpSpPr/>
              <p:nvPr/>
            </p:nvGrpSpPr>
            <p:grpSpPr>
              <a:xfrm>
                <a:off x="7576920" y="601200"/>
                <a:ext cx="1301040" cy="1269720"/>
                <a:chOff x="7576920" y="601200"/>
                <a:chExt cx="1301040" cy="1269720"/>
              </a:xfrm>
            </p:grpSpPr>
            <p:pic>
              <p:nvPicPr>
                <p:cNvPr id="135" name="Freeform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98880" y="677880"/>
                  <a:ext cx="1207800" cy="113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6" name=""/>
                <p:cNvSpPr/>
                <p:nvPr/>
              </p:nvSpPr>
              <p:spPr>
                <a:xfrm rot="11849400">
                  <a:off x="7702920" y="735480"/>
                  <a:ext cx="1049040" cy="100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37" name="Freeform 32"/>
              <p:cNvGrpSpPr/>
              <p:nvPr/>
            </p:nvGrpSpPr>
            <p:grpSpPr>
              <a:xfrm>
                <a:off x="6811560" y="1857240"/>
                <a:ext cx="1442160" cy="836280"/>
                <a:chOff x="6811560" y="1857240"/>
                <a:chExt cx="1442160" cy="836280"/>
              </a:xfrm>
            </p:grpSpPr>
            <p:pic>
              <p:nvPicPr>
                <p:cNvPr id="138" name="Freeform 3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11560" y="1883160"/>
                  <a:ext cx="1442160" cy="757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" name=""/>
                <p:cNvSpPr/>
                <p:nvPr/>
              </p:nvSpPr>
              <p:spPr>
                <a:xfrm rot="6220200">
                  <a:off x="7263360" y="1609920"/>
                  <a:ext cx="537120" cy="133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40" name="Freeform 16"/>
              <p:cNvGrpSpPr/>
              <p:nvPr/>
            </p:nvGrpSpPr>
            <p:grpSpPr>
              <a:xfrm>
                <a:off x="7590960" y="4825080"/>
                <a:ext cx="1479960" cy="1178280"/>
                <a:chOff x="7590960" y="4825080"/>
                <a:chExt cx="1479960" cy="1178280"/>
              </a:xfrm>
            </p:grpSpPr>
            <p:pic>
              <p:nvPicPr>
                <p:cNvPr id="141" name="Freeform 1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641000" y="4941720"/>
                  <a:ext cx="1400040" cy="98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" name=""/>
                <p:cNvSpPr/>
                <p:nvPr/>
              </p:nvSpPr>
              <p:spPr>
                <a:xfrm rot="6532800">
                  <a:off x="7928640" y="4769640"/>
                  <a:ext cx="804600" cy="128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43" name="Freeform 20"/>
              <p:cNvGrpSpPr/>
              <p:nvPr/>
            </p:nvGrpSpPr>
            <p:grpSpPr>
              <a:xfrm>
                <a:off x="6987240" y="5295240"/>
                <a:ext cx="1589400" cy="1452240"/>
                <a:chOff x="6987240" y="5295240"/>
                <a:chExt cx="1589400" cy="1452240"/>
              </a:xfrm>
            </p:grpSpPr>
            <p:pic>
              <p:nvPicPr>
                <p:cNvPr id="144" name="Freeform 20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112520" y="5463720"/>
                  <a:ext cx="1349640" cy="1147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" name=""/>
                <p:cNvSpPr/>
                <p:nvPr/>
              </p:nvSpPr>
              <p:spPr>
                <a:xfrm rot="7603800">
                  <a:off x="7407000" y="5308920"/>
                  <a:ext cx="749160" cy="142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46" name="Group 189"/>
            <p:cNvGrpSpPr/>
            <p:nvPr/>
          </p:nvGrpSpPr>
          <p:grpSpPr>
            <a:xfrm>
              <a:off x="0" y="92520"/>
              <a:ext cx="9144000" cy="6765480"/>
              <a:chOff x="0" y="92520"/>
              <a:chExt cx="9144000" cy="6765480"/>
            </a:xfrm>
          </p:grpSpPr>
          <p:grpSp>
            <p:nvGrpSpPr>
              <p:cNvPr id="147" name="Freeform 12"/>
              <p:cNvGrpSpPr/>
              <p:nvPr/>
            </p:nvGrpSpPr>
            <p:grpSpPr>
              <a:xfrm>
                <a:off x="7513920" y="3521880"/>
                <a:ext cx="1266480" cy="1286640"/>
                <a:chOff x="7513920" y="3521880"/>
                <a:chExt cx="1266480" cy="1286640"/>
              </a:xfrm>
            </p:grpSpPr>
            <p:pic>
              <p:nvPicPr>
                <p:cNvPr id="148" name="Freeform 1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614000" y="3678840"/>
                  <a:ext cx="1078200" cy="996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" name=""/>
                <p:cNvSpPr/>
                <p:nvPr/>
              </p:nvSpPr>
              <p:spPr>
                <a:xfrm rot="19953600">
                  <a:off x="7685280" y="3679920"/>
                  <a:ext cx="923400" cy="97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50" name="Freeform 20"/>
              <p:cNvGrpSpPr/>
              <p:nvPr/>
            </p:nvGrpSpPr>
            <p:grpSpPr>
              <a:xfrm>
                <a:off x="6614640" y="5115240"/>
                <a:ext cx="1188720" cy="1320840"/>
                <a:chOff x="6614640" y="5115240"/>
                <a:chExt cx="1188720" cy="1320840"/>
              </a:xfrm>
            </p:grpSpPr>
            <p:pic>
              <p:nvPicPr>
                <p:cNvPr id="151" name="Freeform 20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728400" y="5249160"/>
                  <a:ext cx="909360" cy="1060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" name=""/>
                <p:cNvSpPr/>
                <p:nvPr/>
              </p:nvSpPr>
              <p:spPr>
                <a:xfrm rot="12860400">
                  <a:off x="6883560" y="5198040"/>
                  <a:ext cx="650880" cy="115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53" name="Freeform 12"/>
              <p:cNvGrpSpPr/>
              <p:nvPr/>
            </p:nvGrpSpPr>
            <p:grpSpPr>
              <a:xfrm>
                <a:off x="7072560" y="2264400"/>
                <a:ext cx="1121400" cy="1126800"/>
                <a:chOff x="7072560" y="2264400"/>
                <a:chExt cx="1121400" cy="1126800"/>
              </a:xfrm>
            </p:grpSpPr>
            <p:pic>
              <p:nvPicPr>
                <p:cNvPr id="154" name="Freeform 1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156440" y="2401920"/>
                  <a:ext cx="951480" cy="814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" name=""/>
                <p:cNvSpPr/>
                <p:nvPr/>
              </p:nvSpPr>
              <p:spPr>
                <a:xfrm rot="1885800">
                  <a:off x="7228080" y="2414880"/>
                  <a:ext cx="809640" cy="82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56" name="Freeform 16"/>
              <p:cNvGrpSpPr/>
              <p:nvPr/>
            </p:nvGrpSpPr>
            <p:grpSpPr>
              <a:xfrm>
                <a:off x="7886880" y="92520"/>
                <a:ext cx="1069920" cy="1140840"/>
                <a:chOff x="7886880" y="92520"/>
                <a:chExt cx="1069920" cy="1140840"/>
              </a:xfrm>
            </p:grpSpPr>
            <p:pic>
              <p:nvPicPr>
                <p:cNvPr id="157" name="Freeform 1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053920" y="223920"/>
                  <a:ext cx="734760" cy="913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8" name=""/>
                <p:cNvSpPr/>
                <p:nvPr/>
              </p:nvSpPr>
              <p:spPr>
                <a:xfrm rot="19458000">
                  <a:off x="8103240" y="189000"/>
                  <a:ext cx="63684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59" name="Freeform 32"/>
              <p:cNvGrpSpPr/>
              <p:nvPr/>
            </p:nvGrpSpPr>
            <p:grpSpPr>
              <a:xfrm>
                <a:off x="6873120" y="1022040"/>
                <a:ext cx="945720" cy="468000"/>
                <a:chOff x="6873120" y="1022040"/>
                <a:chExt cx="945720" cy="468000"/>
              </a:xfrm>
            </p:grpSpPr>
            <p:pic>
              <p:nvPicPr>
                <p:cNvPr id="160" name="Freeform 32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873120" y="1022040"/>
                  <a:ext cx="945720" cy="468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" name=""/>
                <p:cNvSpPr/>
                <p:nvPr/>
              </p:nvSpPr>
              <p:spPr>
                <a:xfrm rot="16200000">
                  <a:off x="7168320" y="834840"/>
                  <a:ext cx="358200" cy="83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62" name="Freeform 28"/>
              <p:cNvGrpSpPr/>
              <p:nvPr/>
            </p:nvGrpSpPr>
            <p:grpSpPr>
              <a:xfrm>
                <a:off x="593280" y="95760"/>
                <a:ext cx="1212120" cy="1293480"/>
                <a:chOff x="593280" y="95760"/>
                <a:chExt cx="1212120" cy="1293480"/>
              </a:xfrm>
            </p:grpSpPr>
            <p:pic>
              <p:nvPicPr>
                <p:cNvPr id="163" name="Freeform 28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40880" y="257400"/>
                  <a:ext cx="891360" cy="943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" name=""/>
                <p:cNvSpPr/>
                <p:nvPr/>
              </p:nvSpPr>
              <p:spPr>
                <a:xfrm rot="2065200">
                  <a:off x="826920" y="213480"/>
                  <a:ext cx="744480" cy="105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65" name="Freeform 39"/>
              <p:cNvGrpSpPr/>
              <p:nvPr/>
            </p:nvGrpSpPr>
            <p:grpSpPr>
              <a:xfrm>
                <a:off x="8722440" y="1173960"/>
                <a:ext cx="421560" cy="887400"/>
                <a:chOff x="8722440" y="1173960"/>
                <a:chExt cx="421560" cy="887400"/>
              </a:xfrm>
            </p:grpSpPr>
            <p:pic>
              <p:nvPicPr>
                <p:cNvPr id="166" name="Freeform 39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722440" y="1173960"/>
                  <a:ext cx="421560" cy="887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7" name=""/>
                <p:cNvSpPr/>
                <p:nvPr/>
              </p:nvSpPr>
              <p:spPr>
                <a:xfrm>
                  <a:off x="8778240" y="1230840"/>
                  <a:ext cx="311400" cy="77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68" name="Freeform 88"/>
              <p:cNvGrpSpPr/>
              <p:nvPr/>
            </p:nvGrpSpPr>
            <p:grpSpPr>
              <a:xfrm>
                <a:off x="11880" y="5010120"/>
                <a:ext cx="789120" cy="1015200"/>
                <a:chOff x="11880" y="5010120"/>
                <a:chExt cx="789120" cy="1015200"/>
              </a:xfrm>
            </p:grpSpPr>
            <p:pic>
              <p:nvPicPr>
                <p:cNvPr id="169" name="Freeform 88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11880" y="5010120"/>
                  <a:ext cx="789120" cy="1015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64440" y="5067360"/>
                  <a:ext cx="684720" cy="90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71" name="Freeform 47"/>
              <p:cNvGrpSpPr/>
              <p:nvPr/>
            </p:nvGrpSpPr>
            <p:grpSpPr>
              <a:xfrm>
                <a:off x="0" y="2341080"/>
                <a:ext cx="554040" cy="960480"/>
                <a:chOff x="0" y="2341080"/>
                <a:chExt cx="554040" cy="960480"/>
              </a:xfrm>
            </p:grpSpPr>
            <p:pic>
              <p:nvPicPr>
                <p:cNvPr id="172" name="Freeform 47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0" y="2341080"/>
                  <a:ext cx="554040" cy="960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" name=""/>
                <p:cNvSpPr/>
                <p:nvPr/>
              </p:nvSpPr>
              <p:spPr>
                <a:xfrm>
                  <a:off x="54000" y="2395800"/>
                  <a:ext cx="448200" cy="85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74" name="Freeform 23"/>
              <p:cNvGrpSpPr/>
              <p:nvPr/>
            </p:nvGrpSpPr>
            <p:grpSpPr>
              <a:xfrm>
                <a:off x="8451360" y="6073920"/>
                <a:ext cx="692640" cy="784080"/>
                <a:chOff x="8451360" y="6073920"/>
                <a:chExt cx="692640" cy="784080"/>
              </a:xfrm>
            </p:grpSpPr>
            <p:pic>
              <p:nvPicPr>
                <p:cNvPr id="175" name="Freeform 2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451360" y="6073920"/>
                  <a:ext cx="692640" cy="784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" name=""/>
                <p:cNvSpPr/>
                <p:nvPr/>
              </p:nvSpPr>
              <p:spPr>
                <a:xfrm>
                  <a:off x="8503920" y="6127920"/>
                  <a:ext cx="585720" cy="67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7" name="Group 200"/>
            <p:cNvGrpSpPr/>
            <p:nvPr/>
          </p:nvGrpSpPr>
          <p:grpSpPr>
            <a:xfrm>
              <a:off x="-16920" y="0"/>
              <a:ext cx="9394560" cy="6858000"/>
              <a:chOff x="-16920" y="0"/>
              <a:chExt cx="9394560" cy="6858000"/>
            </a:xfrm>
          </p:grpSpPr>
          <p:grpSp>
            <p:nvGrpSpPr>
              <p:cNvPr id="178" name="Freeform 16"/>
              <p:cNvGrpSpPr/>
              <p:nvPr/>
            </p:nvGrpSpPr>
            <p:grpSpPr>
              <a:xfrm>
                <a:off x="7391520" y="1329120"/>
                <a:ext cx="1986120" cy="2216160"/>
                <a:chOff x="7391520" y="1329120"/>
                <a:chExt cx="1986120" cy="2216160"/>
              </a:xfrm>
            </p:grpSpPr>
            <p:pic>
              <p:nvPicPr>
                <p:cNvPr id="179" name="Freeform 16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745400" y="1540800"/>
                  <a:ext cx="1314720" cy="1733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0" name=""/>
                <p:cNvSpPr/>
                <p:nvPr/>
              </p:nvSpPr>
              <p:spPr>
                <a:xfrm rot="9111600">
                  <a:off x="7748640" y="1520640"/>
                  <a:ext cx="1271880" cy="183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81" name="Freeform 24"/>
              <p:cNvGrpSpPr/>
              <p:nvPr/>
            </p:nvGrpSpPr>
            <p:grpSpPr>
              <a:xfrm>
                <a:off x="7816680" y="5453640"/>
                <a:ext cx="1215000" cy="791280"/>
                <a:chOff x="7816680" y="5453640"/>
                <a:chExt cx="1215000" cy="791280"/>
              </a:xfrm>
            </p:grpSpPr>
            <p:pic>
              <p:nvPicPr>
                <p:cNvPr id="182" name="Freeform 24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823520" y="5547960"/>
                  <a:ext cx="1147680" cy="582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3" name=""/>
                <p:cNvSpPr/>
                <p:nvPr/>
              </p:nvSpPr>
              <p:spPr>
                <a:xfrm rot="4324800">
                  <a:off x="8190000" y="5286240"/>
                  <a:ext cx="467640" cy="112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84" name="Freeform 28"/>
              <p:cNvGrpSpPr/>
              <p:nvPr/>
            </p:nvGrpSpPr>
            <p:grpSpPr>
              <a:xfrm>
                <a:off x="6858000" y="3920760"/>
                <a:ext cx="1524240" cy="1661760"/>
                <a:chOff x="6858000" y="3920760"/>
                <a:chExt cx="1524240" cy="1661760"/>
              </a:xfrm>
            </p:grpSpPr>
            <p:pic>
              <p:nvPicPr>
                <p:cNvPr id="185" name="Freeform 28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7099920" y="4129920"/>
                  <a:ext cx="1031040" cy="1292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" name=""/>
                <p:cNvSpPr/>
                <p:nvPr/>
              </p:nvSpPr>
              <p:spPr>
                <a:xfrm rot="19659000">
                  <a:off x="7153560" y="4063320"/>
                  <a:ext cx="932400" cy="137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87" name="Freeform 32"/>
              <p:cNvGrpSpPr/>
              <p:nvPr/>
            </p:nvGrpSpPr>
            <p:grpSpPr>
              <a:xfrm>
                <a:off x="7602480" y="393480"/>
                <a:ext cx="867960" cy="1268280"/>
                <a:chOff x="7602480" y="393480"/>
                <a:chExt cx="867960" cy="1268280"/>
              </a:xfrm>
            </p:grpSpPr>
            <p:pic>
              <p:nvPicPr>
                <p:cNvPr id="188" name="Freeform 32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7654680" y="458280"/>
                  <a:ext cx="729720" cy="1140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9" name=""/>
                <p:cNvSpPr/>
                <p:nvPr/>
              </p:nvSpPr>
              <p:spPr>
                <a:xfrm rot="1177800">
                  <a:off x="7783560" y="444240"/>
                  <a:ext cx="505800" cy="11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90" name="Freeform 12"/>
              <p:cNvGrpSpPr/>
              <p:nvPr/>
            </p:nvGrpSpPr>
            <p:grpSpPr>
              <a:xfrm>
                <a:off x="7871400" y="3298680"/>
                <a:ext cx="1309320" cy="1303200"/>
                <a:chOff x="7871400" y="3298680"/>
                <a:chExt cx="1309320" cy="1303200"/>
              </a:xfrm>
            </p:grpSpPr>
            <p:pic>
              <p:nvPicPr>
                <p:cNvPr id="191" name="Freeform 12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8065080" y="3389760"/>
                  <a:ext cx="944640" cy="1111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2" name=""/>
                <p:cNvSpPr/>
                <p:nvPr/>
              </p:nvSpPr>
              <p:spPr>
                <a:xfrm rot="7111200">
                  <a:off x="8048160" y="3464640"/>
                  <a:ext cx="955440" cy="97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93" name="Freeform 15"/>
              <p:cNvGrpSpPr/>
              <p:nvPr/>
            </p:nvGrpSpPr>
            <p:grpSpPr>
              <a:xfrm>
                <a:off x="12960" y="6028560"/>
                <a:ext cx="560880" cy="829440"/>
                <a:chOff x="12960" y="6028560"/>
                <a:chExt cx="560880" cy="829440"/>
              </a:xfrm>
            </p:grpSpPr>
            <p:pic>
              <p:nvPicPr>
                <p:cNvPr id="194" name="Freeform 15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12960" y="6028560"/>
                  <a:ext cx="560880" cy="829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5" name=""/>
                <p:cNvSpPr/>
                <p:nvPr/>
              </p:nvSpPr>
              <p:spPr>
                <a:xfrm>
                  <a:off x="56520" y="6073200"/>
                  <a:ext cx="477720" cy="74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96" name="Freeform 27"/>
              <p:cNvGrpSpPr/>
              <p:nvPr/>
            </p:nvGrpSpPr>
            <p:grpSpPr>
              <a:xfrm>
                <a:off x="-4680" y="3330000"/>
                <a:ext cx="964800" cy="1153800"/>
                <a:chOff x="-4680" y="3330000"/>
                <a:chExt cx="964800" cy="1153800"/>
              </a:xfrm>
            </p:grpSpPr>
            <p:pic>
              <p:nvPicPr>
                <p:cNvPr id="197" name="Freeform 27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-4680" y="3330000"/>
                  <a:ext cx="964800" cy="1153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8" name=""/>
                <p:cNvSpPr/>
                <p:nvPr/>
              </p:nvSpPr>
              <p:spPr>
                <a:xfrm>
                  <a:off x="26280" y="3358080"/>
                  <a:ext cx="903240" cy="10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99" name="Freeform 51"/>
              <p:cNvGrpSpPr/>
              <p:nvPr/>
            </p:nvGrpSpPr>
            <p:grpSpPr>
              <a:xfrm>
                <a:off x="-16920" y="1406520"/>
                <a:ext cx="578880" cy="1388160"/>
                <a:chOff x="-16920" y="1406520"/>
                <a:chExt cx="578880" cy="1388160"/>
              </a:xfrm>
            </p:grpSpPr>
            <p:pic>
              <p:nvPicPr>
                <p:cNvPr id="200" name="Freeform 5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-16920" y="1406520"/>
                  <a:ext cx="578880" cy="1388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1" name=""/>
                <p:cNvSpPr/>
                <p:nvPr/>
              </p:nvSpPr>
              <p:spPr>
                <a:xfrm>
                  <a:off x="25920" y="1447920"/>
                  <a:ext cx="494640" cy="130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02" name="Freeform 43"/>
              <p:cNvGrpSpPr/>
              <p:nvPr/>
            </p:nvGrpSpPr>
            <p:grpSpPr>
              <a:xfrm>
                <a:off x="-10800" y="0"/>
                <a:ext cx="1145880" cy="847440"/>
                <a:chOff x="-10800" y="0"/>
                <a:chExt cx="1145880" cy="847440"/>
              </a:xfrm>
            </p:grpSpPr>
            <p:pic>
              <p:nvPicPr>
                <p:cNvPr id="203" name="Freeform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-10800" y="0"/>
                  <a:ext cx="1145880" cy="847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4" name=""/>
                <p:cNvSpPr/>
                <p:nvPr/>
              </p:nvSpPr>
              <p:spPr>
                <a:xfrm>
                  <a:off x="43200" y="54000"/>
                  <a:ext cx="1038600" cy="73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05" name="Freeform 35"/>
              <p:cNvGrpSpPr/>
              <p:nvPr/>
            </p:nvGrpSpPr>
            <p:grpSpPr>
              <a:xfrm>
                <a:off x="8251920" y="11880"/>
                <a:ext cx="892440" cy="654840"/>
                <a:chOff x="8251920" y="11880"/>
                <a:chExt cx="892440" cy="654840"/>
              </a:xfrm>
            </p:grpSpPr>
            <p:pic>
              <p:nvPicPr>
                <p:cNvPr id="206" name="Freeform 35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8251920" y="11880"/>
                  <a:ext cx="892440" cy="654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7" name=""/>
                <p:cNvSpPr/>
                <p:nvPr/>
              </p:nvSpPr>
              <p:spPr>
                <a:xfrm>
                  <a:off x="8304840" y="65160"/>
                  <a:ext cx="785160" cy="54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08" name="Freeform 31"/>
              <p:cNvGrpSpPr/>
              <p:nvPr/>
            </p:nvGrpSpPr>
            <p:grpSpPr>
              <a:xfrm>
                <a:off x="6900840" y="6136920"/>
                <a:ext cx="1236240" cy="721080"/>
                <a:chOff x="6900840" y="6136920"/>
                <a:chExt cx="1236240" cy="721080"/>
              </a:xfrm>
            </p:grpSpPr>
            <p:pic>
              <p:nvPicPr>
                <p:cNvPr id="209" name="Freeform 31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6900840" y="6136920"/>
                  <a:ext cx="1236240" cy="721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0" name=""/>
                <p:cNvSpPr/>
                <p:nvPr/>
              </p:nvSpPr>
              <p:spPr>
                <a:xfrm>
                  <a:off x="6942960" y="6176520"/>
                  <a:ext cx="11502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211" name="Oval 37"/>
          <p:cNvGrpSpPr/>
          <p:nvPr/>
        </p:nvGrpSpPr>
        <p:grpSpPr>
          <a:xfrm>
            <a:off x="5456160" y="1414440"/>
            <a:ext cx="1133640" cy="1133640"/>
            <a:chOff x="5456160" y="1414440"/>
            <a:chExt cx="1133640" cy="1133640"/>
          </a:xfrm>
        </p:grpSpPr>
        <p:pic>
          <p:nvPicPr>
            <p:cNvPr id="212" name="Oval 37" descr=""/>
            <p:cNvPicPr/>
            <p:nvPr/>
          </p:nvPicPr>
          <p:blipFill>
            <a:blip r:embed="rId29"/>
            <a:stretch/>
          </p:blipFill>
          <p:spPr>
            <a:xfrm>
              <a:off x="5456160" y="1414440"/>
              <a:ext cx="1133640" cy="11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5638680" y="1595520"/>
              <a:ext cx="768600" cy="76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14" name="Oval 38"/>
          <p:cNvGrpSpPr/>
          <p:nvPr/>
        </p:nvGrpSpPr>
        <p:grpSpPr>
          <a:xfrm>
            <a:off x="5626080" y="1390680"/>
            <a:ext cx="878040" cy="871560"/>
            <a:chOff x="5626080" y="1390680"/>
            <a:chExt cx="878040" cy="871560"/>
          </a:xfrm>
        </p:grpSpPr>
        <p:pic>
          <p:nvPicPr>
            <p:cNvPr id="215" name="Oval 38" descr=""/>
            <p:cNvPicPr/>
            <p:nvPr/>
          </p:nvPicPr>
          <p:blipFill>
            <a:blip r:embed="rId30"/>
            <a:stretch/>
          </p:blipFill>
          <p:spPr>
            <a:xfrm>
              <a:off x="5626080" y="1390680"/>
              <a:ext cx="8780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5772240" y="1533600"/>
              <a:ext cx="58716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17" name="Oval 39"/>
          <p:cNvGrpSpPr/>
          <p:nvPr/>
        </p:nvGrpSpPr>
        <p:grpSpPr>
          <a:xfrm>
            <a:off x="5237280" y="1871640"/>
            <a:ext cx="645840" cy="646200"/>
            <a:chOff x="5237280" y="1871640"/>
            <a:chExt cx="645840" cy="646200"/>
          </a:xfrm>
        </p:grpSpPr>
        <p:pic>
          <p:nvPicPr>
            <p:cNvPr id="218" name="Oval 39" descr=""/>
            <p:cNvPicPr/>
            <p:nvPr/>
          </p:nvPicPr>
          <p:blipFill>
            <a:blip r:embed="rId31"/>
            <a:stretch/>
          </p:blipFill>
          <p:spPr>
            <a:xfrm>
              <a:off x="5237280" y="1871640"/>
              <a:ext cx="645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5345280" y="1982880"/>
              <a:ext cx="42516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20" name="Oval 40"/>
          <p:cNvGrpSpPr/>
          <p:nvPr/>
        </p:nvGrpSpPr>
        <p:grpSpPr>
          <a:xfrm>
            <a:off x="5400720" y="1792440"/>
            <a:ext cx="536400" cy="529920"/>
            <a:chOff x="5400720" y="1792440"/>
            <a:chExt cx="536400" cy="529920"/>
          </a:xfrm>
        </p:grpSpPr>
        <p:pic>
          <p:nvPicPr>
            <p:cNvPr id="221" name="Oval 40" descr=""/>
            <p:cNvPicPr/>
            <p:nvPr/>
          </p:nvPicPr>
          <p:blipFill>
            <a:blip r:embed="rId32"/>
            <a:stretch/>
          </p:blipFill>
          <p:spPr>
            <a:xfrm>
              <a:off x="5400720" y="1792440"/>
              <a:ext cx="536400" cy="52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5495760" y="1882800"/>
              <a:ext cx="34632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23" name="Oval 41"/>
          <p:cNvGrpSpPr/>
          <p:nvPr/>
        </p:nvGrpSpPr>
        <p:grpSpPr>
          <a:xfrm>
            <a:off x="4700520" y="2060640"/>
            <a:ext cx="298440" cy="298440"/>
            <a:chOff x="4700520" y="2060640"/>
            <a:chExt cx="298440" cy="298440"/>
          </a:xfrm>
        </p:grpSpPr>
        <p:pic>
          <p:nvPicPr>
            <p:cNvPr id="224" name="Oval 41" descr=""/>
            <p:cNvPicPr/>
            <p:nvPr/>
          </p:nvPicPr>
          <p:blipFill>
            <a:blip r:embed="rId33"/>
            <a:stretch/>
          </p:blipFill>
          <p:spPr>
            <a:xfrm>
              <a:off x="4700520" y="2060640"/>
              <a:ext cx="2984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4756320" y="2120760"/>
              <a:ext cx="18072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26" name="Oval 42"/>
          <p:cNvGrpSpPr/>
          <p:nvPr/>
        </p:nvGrpSpPr>
        <p:grpSpPr>
          <a:xfrm>
            <a:off x="6108840" y="969840"/>
            <a:ext cx="304560" cy="304920"/>
            <a:chOff x="6108840" y="969840"/>
            <a:chExt cx="304560" cy="304920"/>
          </a:xfrm>
        </p:grpSpPr>
        <p:pic>
          <p:nvPicPr>
            <p:cNvPr id="227" name="Oval 42" descr=""/>
            <p:cNvPicPr/>
            <p:nvPr/>
          </p:nvPicPr>
          <p:blipFill>
            <a:blip r:embed="rId34"/>
            <a:stretch/>
          </p:blipFill>
          <p:spPr>
            <a:xfrm>
              <a:off x="6108840" y="96984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6168960" y="1030320"/>
              <a:ext cx="18252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29" name="Oval 43"/>
          <p:cNvGrpSpPr/>
          <p:nvPr/>
        </p:nvGrpSpPr>
        <p:grpSpPr>
          <a:xfrm>
            <a:off x="5035680" y="1871640"/>
            <a:ext cx="242640" cy="243000"/>
            <a:chOff x="5035680" y="1871640"/>
            <a:chExt cx="242640" cy="243000"/>
          </a:xfrm>
        </p:grpSpPr>
        <p:pic>
          <p:nvPicPr>
            <p:cNvPr id="230" name="Oval 43" descr=""/>
            <p:cNvPicPr/>
            <p:nvPr/>
          </p:nvPicPr>
          <p:blipFill>
            <a:blip r:embed="rId35"/>
            <a:stretch/>
          </p:blipFill>
          <p:spPr>
            <a:xfrm>
              <a:off x="5035680" y="1871640"/>
              <a:ext cx="242640" cy="2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5087880" y="1924200"/>
              <a:ext cx="139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32" name="Oval 44"/>
          <p:cNvGrpSpPr/>
          <p:nvPr/>
        </p:nvGrpSpPr>
        <p:grpSpPr>
          <a:xfrm>
            <a:off x="6126120" y="1036800"/>
            <a:ext cx="244440" cy="242640"/>
            <a:chOff x="6126120" y="1036800"/>
            <a:chExt cx="244440" cy="242640"/>
          </a:xfrm>
        </p:grpSpPr>
        <p:pic>
          <p:nvPicPr>
            <p:cNvPr id="233" name="Oval 44" descr=""/>
            <p:cNvPicPr/>
            <p:nvPr/>
          </p:nvPicPr>
          <p:blipFill>
            <a:blip r:embed="rId36"/>
            <a:stretch/>
          </p:blipFill>
          <p:spPr>
            <a:xfrm>
              <a:off x="6126120" y="1036800"/>
              <a:ext cx="244440" cy="24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6176880" y="1089000"/>
              <a:ext cx="139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900" spc="-1" strike="noStrike">
                <a:solidFill>
                  <a:srgbClr val="ff9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ff9000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800" spc="-1" strike="noStrike">
                <a:solidFill>
                  <a:srgbClr val="ff9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325FE-2782-4D57-B544-F523CF3B3FAF}" type="slidenum">
              <a:rPr b="0" lang="en-CA" sz="1800" spc="-1" strike="noStrike">
                <a:solidFill>
                  <a:srgbClr val="ff9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7"/>
    <p:sldLayoutId id="2147483663" r:id="rId38"/>
    <p:sldLayoutId id="2147483664" r:id="rId39"/>
    <p:sldLayoutId id="2147483665" r:id="rId40"/>
    <p:sldLayoutId id="2147483666" r:id="rId41"/>
    <p:sldLayoutId id="2147483667" r:id="rId42"/>
    <p:sldLayoutId id="2147483668" r:id="rId43"/>
    <p:sldLayoutId id="2147483669" r:id="rId44"/>
    <p:sldLayoutId id="2147483670" r:id="rId45"/>
    <p:sldLayoutId id="2147483671" r:id="rId46"/>
    <p:sldLayoutId id="2147483672" r:id="rId47"/>
    <p:sldLayoutId id="2147483673" r:id="rId4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89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4000" spc="-1" strike="noStrike">
                <a:solidFill>
                  <a:srgbClr val="ffffff"/>
                </a:solidFill>
                <a:latin typeface="Verdana"/>
              </a:rPr>
              <a:t>4.5 Summarizing Texts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1009800" y="4776840"/>
            <a:ext cx="711648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CA" sz="2000" spc="-1" strike="noStrike">
              <a:solidFill>
                <a:srgbClr val="ff9000"/>
              </a:solidFill>
              <a:latin typeface="Verdana"/>
            </a:endParaRPr>
          </a:p>
        </p:txBody>
      </p:sp>
      <p:pic>
        <p:nvPicPr>
          <p:cNvPr id="278" name="Picture 2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61200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6920" y="736200"/>
            <a:ext cx="7126560" cy="9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Verdana"/>
              </a:rPr>
              <a:t>8 Steps to Summarizing a Tex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1009800" y="1806480"/>
            <a:ext cx="7124400" cy="4052880"/>
          </a:xfrm>
          <a:prstGeom prst="rect">
            <a:avLst/>
          </a:prstGeom>
          <a:ln w="0">
            <a:noFill/>
          </a:ln>
        </p:spPr>
      </p:pic>
      <p:sp>
        <p:nvSpPr>
          <p:cNvPr id="319" name="5-Point Star 3"/>
          <p:cNvSpPr/>
          <p:nvPr/>
        </p:nvSpPr>
        <p:spPr>
          <a:xfrm>
            <a:off x="20520" y="2060640"/>
            <a:ext cx="3024360" cy="4464000"/>
          </a:xfrm>
          <a:custGeom>
            <a:avLst/>
            <a:gdLst/>
            <a:ahLst/>
            <a:rect l="l" t="t" r="r" b="b"/>
            <a:pathLst>
              <a:path w="3024336" h="4464496">
                <a:moveTo>
                  <a:pt x="3" y="1705281"/>
                </a:moveTo>
                <a:lnTo>
                  <a:pt x="1155200" y="1705293"/>
                </a:lnTo>
                <a:lnTo>
                  <a:pt x="1512168" y="0"/>
                </a:lnTo>
                <a:lnTo>
                  <a:pt x="1869136" y="1705293"/>
                </a:lnTo>
                <a:lnTo>
                  <a:pt x="3024333" y="1705281"/>
                </a:lnTo>
                <a:lnTo>
                  <a:pt x="2089754" y="2759199"/>
                </a:lnTo>
                <a:lnTo>
                  <a:pt x="2446737" y="4464485"/>
                </a:lnTo>
                <a:lnTo>
                  <a:pt x="1512168" y="3410548"/>
                </a:lnTo>
                <a:lnTo>
                  <a:pt x="577599" y="4464485"/>
                </a:lnTo>
                <a:lnTo>
                  <a:pt x="934582" y="2759199"/>
                </a:lnTo>
                <a:lnTo>
                  <a:pt x="3" y="1705281"/>
                </a:lnTo>
                <a:close/>
              </a:path>
            </a:pathLst>
          </a:custGeom>
          <a:solidFill>
            <a:srgbClr val="ed4600"/>
          </a:solidFill>
          <a:ln cap="rnd" w="19080">
            <a:solidFill>
              <a:srgbClr val="ae3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TextBox 4"/>
          <p:cNvSpPr/>
          <p:nvPr/>
        </p:nvSpPr>
        <p:spPr>
          <a:xfrm>
            <a:off x="849240" y="41083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Verdana"/>
              </a:rPr>
              <a:t>Step 8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21" name="Rectangle 5" descr=""/>
          <p:cNvPicPr/>
          <p:nvPr/>
        </p:nvPicPr>
        <p:blipFill>
          <a:blip r:embed="rId2"/>
          <a:stretch/>
        </p:blipFill>
        <p:spPr>
          <a:xfrm>
            <a:off x="1670040" y="1670040"/>
            <a:ext cx="772956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Verdana"/>
              </a:rPr>
              <a:t>What is a summary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Verdana"/>
              </a:rPr>
              <a:t>A summary is a shorter version of a longer piece of writing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Verdana"/>
              </a:rPr>
              <a:t>A good summary should capture the </a:t>
            </a:r>
            <a:r>
              <a:rPr b="1" lang="en-CA" sz="3200" spc="-1" strike="noStrike">
                <a:solidFill>
                  <a:srgbClr val="ffffff"/>
                </a:solidFill>
                <a:latin typeface="Verdana"/>
              </a:rPr>
              <a:t>main idea </a:t>
            </a:r>
            <a:r>
              <a:rPr b="0" lang="en-CA" sz="3200" spc="-1" strike="noStrike">
                <a:solidFill>
                  <a:srgbClr val="ffffff"/>
                </a:solidFill>
                <a:latin typeface="Verdana"/>
              </a:rPr>
              <a:t>and its </a:t>
            </a:r>
            <a:r>
              <a:rPr b="1" lang="en-CA" sz="3200" spc="-1" strike="noStrike">
                <a:solidFill>
                  <a:srgbClr val="ffffff"/>
                </a:solidFill>
                <a:latin typeface="Verdana"/>
              </a:rPr>
              <a:t>supporting details</a:t>
            </a:r>
            <a:r>
              <a:rPr b="0" lang="en-CA" sz="3200" spc="-1" strike="noStrike">
                <a:solidFill>
                  <a:srgbClr val="ffffff"/>
                </a:solidFill>
                <a:latin typeface="Verdana"/>
              </a:rPr>
              <a:t>, but expresses them in a much shorter amount of wor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1128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Verdana"/>
              </a:rPr>
              <a:t>8 Steps to Summarizing a Tex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2" name="Content Placeholder 2" descr=""/>
          <p:cNvPicPr/>
          <p:nvPr/>
        </p:nvPicPr>
        <p:blipFill>
          <a:blip r:embed="rId1"/>
          <a:stretch/>
        </p:blipFill>
        <p:spPr>
          <a:xfrm>
            <a:off x="1011240" y="1805040"/>
            <a:ext cx="7278840" cy="4052880"/>
          </a:xfrm>
          <a:prstGeom prst="rect">
            <a:avLst/>
          </a:prstGeom>
          <a:ln w="0">
            <a:noFill/>
          </a:ln>
        </p:spPr>
      </p:pic>
      <p:sp>
        <p:nvSpPr>
          <p:cNvPr id="283" name="5-Point Star 3"/>
          <p:cNvSpPr/>
          <p:nvPr/>
        </p:nvSpPr>
        <p:spPr>
          <a:xfrm>
            <a:off x="87480" y="2852640"/>
            <a:ext cx="3168360" cy="2016360"/>
          </a:xfrm>
          <a:custGeom>
            <a:avLst/>
            <a:gdLst/>
            <a:ahLst/>
            <a:rect l="l" t="t" r="r" b="b"/>
            <a:pathLst>
              <a:path w="3168352" h="2016224">
                <a:moveTo>
                  <a:pt x="3" y="770127"/>
                </a:moveTo>
                <a:lnTo>
                  <a:pt x="1210209" y="770133"/>
                </a:lnTo>
                <a:lnTo>
                  <a:pt x="1584176" y="0"/>
                </a:lnTo>
                <a:lnTo>
                  <a:pt x="1958143" y="770133"/>
                </a:lnTo>
                <a:lnTo>
                  <a:pt x="3168349" y="770127"/>
                </a:lnTo>
                <a:lnTo>
                  <a:pt x="2189267" y="1246090"/>
                </a:lnTo>
                <a:lnTo>
                  <a:pt x="2563249" y="2016219"/>
                </a:lnTo>
                <a:lnTo>
                  <a:pt x="1584176" y="1540247"/>
                </a:lnTo>
                <a:lnTo>
                  <a:pt x="605103" y="2016219"/>
                </a:lnTo>
                <a:lnTo>
                  <a:pt x="979085" y="1246090"/>
                </a:lnTo>
                <a:lnTo>
                  <a:pt x="3" y="770127"/>
                </a:lnTo>
                <a:close/>
              </a:path>
            </a:pathLst>
          </a:custGeom>
          <a:solidFill>
            <a:srgbClr val="ed4600"/>
          </a:solidFill>
          <a:ln cap="rnd" w="19080">
            <a:solidFill>
              <a:srgbClr val="ae3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TextBox 4"/>
          <p:cNvSpPr/>
          <p:nvPr/>
        </p:nvSpPr>
        <p:spPr>
          <a:xfrm>
            <a:off x="1265400" y="367668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Verdana"/>
              </a:rPr>
              <a:t>Step 1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Verdana"/>
              </a:rPr>
              <a:t>8 Steps to Summarizing a Tex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6" name="Content Placeholder 2" descr=""/>
          <p:cNvPicPr/>
          <p:nvPr/>
        </p:nvPicPr>
        <p:blipFill>
          <a:blip r:embed="rId1"/>
          <a:stretch/>
        </p:blipFill>
        <p:spPr>
          <a:xfrm>
            <a:off x="1011240" y="1695600"/>
            <a:ext cx="7218360" cy="4290840"/>
          </a:xfrm>
          <a:prstGeom prst="rect">
            <a:avLst/>
          </a:prstGeom>
          <a:ln w="0">
            <a:noFill/>
          </a:ln>
        </p:spPr>
      </p:pic>
      <p:sp>
        <p:nvSpPr>
          <p:cNvPr id="287" name="5-Point Star 4"/>
          <p:cNvSpPr/>
          <p:nvPr/>
        </p:nvSpPr>
        <p:spPr>
          <a:xfrm>
            <a:off x="179280" y="1989000"/>
            <a:ext cx="3456000" cy="2880000"/>
          </a:xfrm>
          <a:custGeom>
            <a:avLst/>
            <a:gdLst/>
            <a:ahLst/>
            <a:rect l="l" t="t" r="r" b="b"/>
            <a:pathLst>
              <a:path w="3456384" h="2880320">
                <a:moveTo>
                  <a:pt x="4" y="1100182"/>
                </a:moveTo>
                <a:lnTo>
                  <a:pt x="1320228" y="1100189"/>
                </a:lnTo>
                <a:lnTo>
                  <a:pt x="1728192" y="0"/>
                </a:lnTo>
                <a:lnTo>
                  <a:pt x="2136156" y="1100189"/>
                </a:lnTo>
                <a:lnTo>
                  <a:pt x="3456380" y="1100182"/>
                </a:lnTo>
                <a:lnTo>
                  <a:pt x="2388291" y="1780128"/>
                </a:lnTo>
                <a:lnTo>
                  <a:pt x="2796271" y="2880313"/>
                </a:lnTo>
                <a:lnTo>
                  <a:pt x="1728192" y="2200354"/>
                </a:lnTo>
                <a:lnTo>
                  <a:pt x="660113" y="2880313"/>
                </a:lnTo>
                <a:lnTo>
                  <a:pt x="1068093" y="1780128"/>
                </a:lnTo>
                <a:lnTo>
                  <a:pt x="4" y="1100182"/>
                </a:lnTo>
                <a:close/>
              </a:path>
            </a:pathLst>
          </a:custGeom>
          <a:solidFill>
            <a:srgbClr val="ed4600"/>
          </a:solidFill>
          <a:ln cap="rnd" w="19080">
            <a:solidFill>
              <a:srgbClr val="ae3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TextBox 5"/>
          <p:cNvSpPr/>
          <p:nvPr/>
        </p:nvSpPr>
        <p:spPr>
          <a:xfrm>
            <a:off x="1116000" y="324468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CA" sz="1800" spc="-1" strike="noStrike">
                <a:solidFill>
                  <a:srgbClr val="ffffff"/>
                </a:solidFill>
                <a:latin typeface="Verdana"/>
              </a:rPr>
              <a:t>Step  2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Verdana"/>
              </a:rPr>
              <a:t>8 Steps to Summarizing a Tex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1009800" y="1806120"/>
            <a:ext cx="7124400" cy="48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5-Point Star 3"/>
          <p:cNvSpPr/>
          <p:nvPr/>
        </p:nvSpPr>
        <p:spPr>
          <a:xfrm>
            <a:off x="468360" y="2060640"/>
            <a:ext cx="3456000" cy="2808360"/>
          </a:xfrm>
          <a:custGeom>
            <a:avLst/>
            <a:gdLst/>
            <a:ahLst/>
            <a:rect l="l" t="t" r="r" b="b"/>
            <a:pathLst>
              <a:path w="3456384" h="2808312">
                <a:moveTo>
                  <a:pt x="4" y="1072677"/>
                </a:moveTo>
                <a:lnTo>
                  <a:pt x="1320228" y="1072685"/>
                </a:lnTo>
                <a:lnTo>
                  <a:pt x="1728192" y="0"/>
                </a:lnTo>
                <a:lnTo>
                  <a:pt x="2136156" y="1072685"/>
                </a:lnTo>
                <a:lnTo>
                  <a:pt x="3456380" y="1072677"/>
                </a:lnTo>
                <a:lnTo>
                  <a:pt x="2388291" y="1735625"/>
                </a:lnTo>
                <a:lnTo>
                  <a:pt x="2796271" y="2808305"/>
                </a:lnTo>
                <a:lnTo>
                  <a:pt x="1728192" y="2145345"/>
                </a:lnTo>
                <a:lnTo>
                  <a:pt x="660113" y="2808305"/>
                </a:lnTo>
                <a:lnTo>
                  <a:pt x="1068093" y="1735625"/>
                </a:lnTo>
                <a:lnTo>
                  <a:pt x="4" y="1072677"/>
                </a:lnTo>
                <a:close/>
              </a:path>
            </a:pathLst>
          </a:custGeom>
          <a:solidFill>
            <a:srgbClr val="ed4600"/>
          </a:solidFill>
          <a:ln cap="rnd" w="19080">
            <a:solidFill>
              <a:srgbClr val="ae3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1619280" y="3284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CA" sz="1800" spc="-1" strike="noStrike">
                <a:solidFill>
                  <a:srgbClr val="ffffff"/>
                </a:solidFill>
                <a:latin typeface="Verdana"/>
              </a:rPr>
              <a:t>Step 3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3" name="Rectangle 5" descr=""/>
          <p:cNvPicPr/>
          <p:nvPr/>
        </p:nvPicPr>
        <p:blipFill>
          <a:blip r:embed="rId1"/>
          <a:stretch/>
        </p:blipFill>
        <p:spPr>
          <a:xfrm>
            <a:off x="3376440" y="1670040"/>
            <a:ext cx="6169320" cy="1920960"/>
          </a:xfrm>
          <a:prstGeom prst="rect">
            <a:avLst/>
          </a:prstGeom>
          <a:ln w="0">
            <a:noFill/>
          </a:ln>
        </p:spPr>
      </p:pic>
      <p:pic>
        <p:nvPicPr>
          <p:cNvPr id="294" name="Rectangle 6" descr=""/>
          <p:cNvPicPr/>
          <p:nvPr/>
        </p:nvPicPr>
        <p:blipFill>
          <a:blip r:embed="rId2"/>
          <a:stretch/>
        </p:blipFill>
        <p:spPr>
          <a:xfrm>
            <a:off x="3754440" y="3981600"/>
            <a:ext cx="44625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Verdana"/>
              </a:rPr>
              <a:t>8 Steps to Summarizing a Tex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1009800" y="1806480"/>
            <a:ext cx="7124400" cy="4052880"/>
          </a:xfrm>
          <a:prstGeom prst="rect">
            <a:avLst/>
          </a:prstGeom>
          <a:ln w="0">
            <a:noFill/>
          </a:ln>
        </p:spPr>
      </p:pic>
      <p:sp>
        <p:nvSpPr>
          <p:cNvPr id="297" name="5-Point Star 3"/>
          <p:cNvSpPr/>
          <p:nvPr/>
        </p:nvSpPr>
        <p:spPr>
          <a:xfrm>
            <a:off x="0" y="1557360"/>
            <a:ext cx="3168720" cy="2808360"/>
          </a:xfrm>
          <a:custGeom>
            <a:avLst/>
            <a:gdLst/>
            <a:ahLst/>
            <a:rect l="l" t="t" r="r" b="b"/>
            <a:pathLst>
              <a:path w="3168352" h="2808312">
                <a:moveTo>
                  <a:pt x="3" y="1072677"/>
                </a:moveTo>
                <a:lnTo>
                  <a:pt x="1210209" y="1072685"/>
                </a:lnTo>
                <a:lnTo>
                  <a:pt x="1584176" y="0"/>
                </a:lnTo>
                <a:lnTo>
                  <a:pt x="1958143" y="1072685"/>
                </a:lnTo>
                <a:lnTo>
                  <a:pt x="3168349" y="1072677"/>
                </a:lnTo>
                <a:lnTo>
                  <a:pt x="2189267" y="1735625"/>
                </a:lnTo>
                <a:lnTo>
                  <a:pt x="2563249" y="2808305"/>
                </a:lnTo>
                <a:lnTo>
                  <a:pt x="1584176" y="2145345"/>
                </a:lnTo>
                <a:lnTo>
                  <a:pt x="605103" y="2808305"/>
                </a:lnTo>
                <a:lnTo>
                  <a:pt x="979085" y="1735625"/>
                </a:lnTo>
                <a:lnTo>
                  <a:pt x="3" y="1072677"/>
                </a:lnTo>
                <a:close/>
              </a:path>
            </a:pathLst>
          </a:custGeom>
          <a:solidFill>
            <a:srgbClr val="ed4600"/>
          </a:solidFill>
          <a:ln cap="rnd" w="19080">
            <a:solidFill>
              <a:srgbClr val="ae3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TextBox 4"/>
          <p:cNvSpPr/>
          <p:nvPr/>
        </p:nvSpPr>
        <p:spPr>
          <a:xfrm>
            <a:off x="1008000" y="277668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CA" sz="1800" spc="-1" strike="noStrike">
                <a:solidFill>
                  <a:srgbClr val="ffffff"/>
                </a:solidFill>
                <a:latin typeface="Verdana"/>
              </a:rPr>
              <a:t>Step 4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9" name="Rectangle 5" descr=""/>
          <p:cNvPicPr/>
          <p:nvPr/>
        </p:nvPicPr>
        <p:blipFill>
          <a:blip r:embed="rId2"/>
          <a:stretch/>
        </p:blipFill>
        <p:spPr>
          <a:xfrm>
            <a:off x="2590920" y="1816200"/>
            <a:ext cx="6748200" cy="1920600"/>
          </a:xfrm>
          <a:prstGeom prst="rect">
            <a:avLst/>
          </a:prstGeom>
          <a:ln w="0">
            <a:noFill/>
          </a:ln>
        </p:spPr>
      </p:pic>
      <p:pic>
        <p:nvPicPr>
          <p:cNvPr id="300" name="Rectangle 6" descr=""/>
          <p:cNvPicPr/>
          <p:nvPr/>
        </p:nvPicPr>
        <p:blipFill>
          <a:blip r:embed="rId3"/>
          <a:stretch/>
        </p:blipFill>
        <p:spPr>
          <a:xfrm>
            <a:off x="2273400" y="3975120"/>
            <a:ext cx="5962680" cy="19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Verdana"/>
              </a:rPr>
              <a:t>8 Steps to Summarizing a Tex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1009800" y="1806480"/>
            <a:ext cx="7124400" cy="4052880"/>
          </a:xfrm>
          <a:prstGeom prst="rect">
            <a:avLst/>
          </a:prstGeom>
          <a:ln w="0">
            <a:noFill/>
          </a:ln>
        </p:spPr>
      </p:pic>
      <p:sp>
        <p:nvSpPr>
          <p:cNvPr id="303" name="5-Point Star 3"/>
          <p:cNvSpPr/>
          <p:nvPr/>
        </p:nvSpPr>
        <p:spPr>
          <a:xfrm>
            <a:off x="-1440" y="1774800"/>
            <a:ext cx="3673440" cy="3959280"/>
          </a:xfrm>
          <a:custGeom>
            <a:avLst/>
            <a:gdLst/>
            <a:ahLst/>
            <a:rect l="l" t="t" r="r" b="b"/>
            <a:pathLst>
              <a:path w="3672408" h="3960440">
                <a:moveTo>
                  <a:pt x="4" y="1512750"/>
                </a:moveTo>
                <a:lnTo>
                  <a:pt x="1402743" y="1512760"/>
                </a:lnTo>
                <a:lnTo>
                  <a:pt x="1836204" y="0"/>
                </a:lnTo>
                <a:lnTo>
                  <a:pt x="2269665" y="1512760"/>
                </a:lnTo>
                <a:lnTo>
                  <a:pt x="3672404" y="1512750"/>
                </a:lnTo>
                <a:lnTo>
                  <a:pt x="2537559" y="2447676"/>
                </a:lnTo>
                <a:lnTo>
                  <a:pt x="2971038" y="3960430"/>
                </a:lnTo>
                <a:lnTo>
                  <a:pt x="1836204" y="3025486"/>
                </a:lnTo>
                <a:lnTo>
                  <a:pt x="701370" y="3960430"/>
                </a:lnTo>
                <a:lnTo>
                  <a:pt x="1134849" y="2447676"/>
                </a:lnTo>
                <a:lnTo>
                  <a:pt x="4" y="1512750"/>
                </a:lnTo>
                <a:close/>
              </a:path>
            </a:pathLst>
          </a:custGeom>
          <a:solidFill>
            <a:srgbClr val="ed4600"/>
          </a:solidFill>
          <a:ln cap="rnd" w="19080">
            <a:solidFill>
              <a:srgbClr val="ae3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TextBox 4"/>
          <p:cNvSpPr/>
          <p:nvPr/>
        </p:nvSpPr>
        <p:spPr>
          <a:xfrm>
            <a:off x="1258920" y="357012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Verdana"/>
              </a:rPr>
              <a:t>Step 5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5" name="Rectangle 5" descr=""/>
          <p:cNvPicPr/>
          <p:nvPr/>
        </p:nvPicPr>
        <p:blipFill>
          <a:blip r:embed="rId2"/>
          <a:stretch/>
        </p:blipFill>
        <p:spPr>
          <a:xfrm>
            <a:off x="2444760" y="1676520"/>
            <a:ext cx="6864480" cy="2895480"/>
          </a:xfrm>
          <a:prstGeom prst="rect">
            <a:avLst/>
          </a:prstGeom>
          <a:ln w="0">
            <a:noFill/>
          </a:ln>
        </p:spPr>
      </p:pic>
      <p:pic>
        <p:nvPicPr>
          <p:cNvPr id="306" name="Rectangle 6" descr=""/>
          <p:cNvPicPr/>
          <p:nvPr/>
        </p:nvPicPr>
        <p:blipFill>
          <a:blip r:embed="rId3"/>
          <a:stretch/>
        </p:blipFill>
        <p:spPr>
          <a:xfrm>
            <a:off x="2889360" y="4694400"/>
            <a:ext cx="6503760" cy="19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Verdana"/>
              </a:rPr>
              <a:t>8 Steps to Summarizing a Tex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1009800" y="1806480"/>
            <a:ext cx="7124400" cy="4052880"/>
          </a:xfrm>
          <a:prstGeom prst="rect">
            <a:avLst/>
          </a:prstGeom>
          <a:ln w="0">
            <a:noFill/>
          </a:ln>
        </p:spPr>
      </p:pic>
      <p:sp>
        <p:nvSpPr>
          <p:cNvPr id="309" name="5-Point Star 3"/>
          <p:cNvSpPr/>
          <p:nvPr/>
        </p:nvSpPr>
        <p:spPr>
          <a:xfrm>
            <a:off x="12600" y="1709640"/>
            <a:ext cx="3095640" cy="4681800"/>
          </a:xfrm>
          <a:custGeom>
            <a:avLst/>
            <a:gdLst/>
            <a:ahLst/>
            <a:rect l="l" t="t" r="r" b="b"/>
            <a:pathLst>
              <a:path w="3096344" h="4680520">
                <a:moveTo>
                  <a:pt x="3" y="1787795"/>
                </a:moveTo>
                <a:lnTo>
                  <a:pt x="1182705" y="1787808"/>
                </a:lnTo>
                <a:lnTo>
                  <a:pt x="1548172" y="0"/>
                </a:lnTo>
                <a:lnTo>
                  <a:pt x="1913639" y="1787808"/>
                </a:lnTo>
                <a:lnTo>
                  <a:pt x="3096341" y="1787795"/>
                </a:lnTo>
                <a:lnTo>
                  <a:pt x="2139511" y="2892708"/>
                </a:lnTo>
                <a:lnTo>
                  <a:pt x="2504993" y="4680508"/>
                </a:lnTo>
                <a:lnTo>
                  <a:pt x="1548172" y="3575574"/>
                </a:lnTo>
                <a:lnTo>
                  <a:pt x="591351" y="4680508"/>
                </a:lnTo>
                <a:lnTo>
                  <a:pt x="956833" y="2892708"/>
                </a:lnTo>
                <a:lnTo>
                  <a:pt x="3" y="1787795"/>
                </a:lnTo>
                <a:close/>
              </a:path>
            </a:pathLst>
          </a:custGeom>
          <a:solidFill>
            <a:srgbClr val="ed4600"/>
          </a:solidFill>
          <a:ln cap="rnd" w="19080">
            <a:solidFill>
              <a:srgbClr val="ae3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TextBox 4"/>
          <p:cNvSpPr/>
          <p:nvPr/>
        </p:nvSpPr>
        <p:spPr>
          <a:xfrm>
            <a:off x="1092240" y="38656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Verdana"/>
              </a:rPr>
              <a:t>Step 6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11" name="Rectangle 5" descr=""/>
          <p:cNvPicPr/>
          <p:nvPr/>
        </p:nvPicPr>
        <p:blipFill>
          <a:blip r:embed="rId2"/>
          <a:stretch/>
        </p:blipFill>
        <p:spPr>
          <a:xfrm>
            <a:off x="1768320" y="1609560"/>
            <a:ext cx="754092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Verdana"/>
              </a:rPr>
              <a:t>8 Steps to Summarizing a Tex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1009800" y="1806480"/>
            <a:ext cx="7124400" cy="4052880"/>
          </a:xfrm>
          <a:prstGeom prst="rect">
            <a:avLst/>
          </a:prstGeom>
          <a:ln w="0">
            <a:noFill/>
          </a:ln>
        </p:spPr>
      </p:pic>
      <p:sp>
        <p:nvSpPr>
          <p:cNvPr id="314" name="5-Point Star 3"/>
          <p:cNvSpPr/>
          <p:nvPr/>
        </p:nvSpPr>
        <p:spPr>
          <a:xfrm>
            <a:off x="250920" y="1557360"/>
            <a:ext cx="3168720" cy="4608360"/>
          </a:xfrm>
          <a:custGeom>
            <a:avLst/>
            <a:gdLst/>
            <a:ahLst/>
            <a:rect l="l" t="t" r="r" b="b"/>
            <a:pathLst>
              <a:path w="3168352" h="4608512">
                <a:moveTo>
                  <a:pt x="3" y="1760290"/>
                </a:moveTo>
                <a:lnTo>
                  <a:pt x="1210209" y="1760303"/>
                </a:lnTo>
                <a:lnTo>
                  <a:pt x="1584176" y="0"/>
                </a:lnTo>
                <a:lnTo>
                  <a:pt x="1958143" y="1760303"/>
                </a:lnTo>
                <a:lnTo>
                  <a:pt x="3168349" y="1760290"/>
                </a:lnTo>
                <a:lnTo>
                  <a:pt x="2189267" y="2848205"/>
                </a:lnTo>
                <a:lnTo>
                  <a:pt x="2563249" y="4608500"/>
                </a:lnTo>
                <a:lnTo>
                  <a:pt x="1584176" y="3520566"/>
                </a:lnTo>
                <a:lnTo>
                  <a:pt x="605103" y="4608500"/>
                </a:lnTo>
                <a:lnTo>
                  <a:pt x="979085" y="2848205"/>
                </a:lnTo>
                <a:lnTo>
                  <a:pt x="3" y="1760290"/>
                </a:lnTo>
                <a:close/>
              </a:path>
            </a:pathLst>
          </a:custGeom>
          <a:solidFill>
            <a:srgbClr val="ed4600"/>
          </a:solidFill>
          <a:ln cap="rnd" w="19080">
            <a:solidFill>
              <a:srgbClr val="ae3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TextBox 4"/>
          <p:cNvSpPr/>
          <p:nvPr/>
        </p:nvSpPr>
        <p:spPr>
          <a:xfrm>
            <a:off x="1258920" y="367668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Verdana"/>
              </a:rPr>
              <a:t>Step 7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16" name="Rectangle 5" descr=""/>
          <p:cNvPicPr/>
          <p:nvPr/>
        </p:nvPicPr>
        <p:blipFill>
          <a:blip r:embed="rId2"/>
          <a:stretch/>
        </p:blipFill>
        <p:spPr>
          <a:xfrm>
            <a:off x="2249640" y="1816200"/>
            <a:ext cx="7126200" cy="38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6T20:21:02Z</dcterms:created>
  <dc:creator>Jason</dc:creator>
  <dc:description/>
  <dc:language>en-US</dc:language>
  <cp:lastModifiedBy>Jason</cp:lastModifiedBy>
  <cp:lastPrinted>2011-05-09T11:29:26Z</cp:lastPrinted>
  <dcterms:modified xsi:type="dcterms:W3CDTF">2011-05-19T00:32:55Z</dcterms:modified>
  <cp:revision>4</cp:revision>
  <dc:subject/>
  <dc:title>4.5 Summarizing Texts</dc:title>
</cp:coreProperties>
</file>